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B41D22B-9892-4E48-8FAC-946A2F8B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8A05690-733A-444E-865E-6B969EBB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8FC8FC8-60DD-4E27-B599-7AD6BBC8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0A4F928-3C9E-4F63-9455-D8FCC26F3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1B2AA1-2560-4B5D-A7D3-4BC62404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C16C907-026F-45CC-A770-42649E87E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FB0BAE1-BC84-4C67-BB9A-72AC537A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B6E747D-FFD3-4BCA-853F-430C52B42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9E8C0C2-4655-4813-B0CE-84F2BC70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4AFFFD5-EC05-434B-930F-4D13B8AF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1F0A89-E7AF-4036-9863-80F28495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ne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lecting tools and computational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1BC4D35-2D61-4D6F-9BFE-5C34CD09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474DE3E-DC1C-41CE-9841-D7B46DF9E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097-059A-4971-8D28-73DC77B3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CB2-D841-480E-B363-19E50216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1F5-75B7-447E-BFC3-8BED5BEC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8CE-B6A7-4D23-8139-7990A1EF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46A4-DEB5-4759-A72B-65A8CE9C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E39C-71E0-4C63-8FAE-1BE65006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6DE9-9240-4649-8EB3-FB53A67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5629-9B07-419B-B383-FF5D419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6690-F332-45CA-9289-EAE5187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613-27E6-4EC6-8005-F83240A8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5AFF-0ABB-4385-AB37-06D5AEB1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C84-89F9-45A2-94B3-15DB8929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108A-6E0B-4AE0-B23A-B3AC116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1C04-DAAC-4FC1-A26A-638535A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6962-09BF-4EA3-8ADB-0F1C6704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6032-5553-4C8A-9B75-6CAA64A3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B85A-4049-4D96-990F-B3DA4E37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14E-FE99-4600-B1F9-0B08A67A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26B-B511-4940-A2C7-8835CBCB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CF7-F1BD-464E-AB89-7D0700A0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03B-99B0-4423-AA32-99616D01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A03-8B6B-4551-9C64-65E9264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15F-D7E5-43EA-A09B-BF3B231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57C-2EE2-4FB6-8B25-49366E9C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B49A-DC6B-4BB5-8996-AAC3C4890D1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C0E0-F315-4EEA-94A0-826E1B965E9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4993-A44B-4421-AD90-386DF93F7A2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Kaye Appl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Silvana Sim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457-A0CC-4B3A-891B-26571E257A6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552840" y="990720"/>
            <a:ext cx="383868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80880" y="2901960"/>
            <a:ext cx="297828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Gothic"/>
              </a:rPr>
              <a:t>The Important Bo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y Margaret Wise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ADA4-8D3A-48C3-86A9-45F704AA16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Make a ‘hot dog’ paper f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Make a ‘hamburger’ paper f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ld again in this dir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Open paper; make ‘hamburger’ f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ith folded edge along the top, tear along the vertical crease until the horizontal 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Open paper; make hotdog fold; push towards centre to join ed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ld to form a book of 8 p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1ED6-741D-4E3B-87B3-66CE2BB651C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abel Pag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1- Cover: 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Important Bo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2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Big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3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Linear Patterns &amp; Relations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4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Plan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age 5- 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Open Ques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Page 6- Parallel Task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46F0-C536-4EAE-B1FA-6EADD0F988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important things about Linear Patterns &amp; Relations I learned today are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A4D-3E17-462A-B38E-7E74424C0E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600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velop an Understanding of how the Big Ideas from Patterning to Algebraic Reasoning connect to Linear Fun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nnect the Mathematical Processes to the Big Ideas  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Differentiated Instruc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ffective Use of Technology and Manipula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Questioning to Evoke and Expose Thin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Build a Math-Talk Learning Community (fearless speaking and listen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rovide Assessment for Learning Opportun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1312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Have Fun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67A-8DA2-44A4-9D82-827154BB762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ideas will be listened to carefully and responded to respectfully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have a voic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l suggestions will be presented with the intent to move the collective forwar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larifying questions are welco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Aft>
                <a:spcPts val="1049"/>
              </a:spcAft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Everyone will engage fully in the momen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78E8-0CBF-4131-A100-E7128B97C7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7711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eet and Gre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04" name="Picture 4" descr="MCj04350450000[1]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25320" y="1963800"/>
            <a:ext cx="7893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hare a strategy you have used or would like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o use in the first week of class to help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students feel comfortable with sharing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nd talking about mathematics in your classro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D13-67BE-4621-9DAC-14A2C60376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rom Patterning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Algebraic Reason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75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Algebraic reasoning is a process of describing and analyzing (e.g., predicting) generalized mathematical relationships and change using words and symbol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Comparing mathematical relationships helps us see that there are classes of relationships and provides insight into each member of the cl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ifferent representations of relationships (e.g. numeric, graphic, geometric, algebraic) highlight different characteristics or behaviours,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3399"/>
                </a:solidFill>
                <a:latin typeface="Century Gothic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mited information about a mathematical relationship can sometimes, but not always, allow us to predict other information about that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867D-4A56-4519-9904-2E7570192D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Big Ideas fo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Patterns &amp; Rela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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Describing the relationship between two things as a pattern is a foundation to algebraic reason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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he mathematical structure of a linear growing pattern can be represented in different ways (e.g., numeric, graphical, geometric, algebraic).  Different representations highlight different characteristics and can serve different purpo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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Linear growing patterns can be distinguished from other patterns by the way they grow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28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Wingdings"/>
                <a:ea typeface="Wingdings"/>
              </a:rPr>
              <a:t>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Two pieces of information about a linear growing pattern can be sufficient information to fully describe the pattern or fun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27C-010C-46EA-B652-763D679508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92320" y="1479600"/>
            <a:ext cx="6924600" cy="5378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hematical Process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6B3-F2F4-4690-ADA6-98B21F3FD4B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For each question, identify the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Big Idea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that it is associated 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ith and post on chart pap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 rot="1066800">
            <a:off x="512280" y="3428640"/>
            <a:ext cx="1936800" cy="2541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835600" y="1949400"/>
            <a:ext cx="2836800" cy="4270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174040" y="4886280"/>
            <a:ext cx="3861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2a00"/>
                </a:solidFill>
                <a:latin typeface="Century Gothic"/>
              </a:rPr>
              <a:t>Be ready to defend th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b02a00"/>
                </a:solidFill>
                <a:latin typeface="Century Gothic"/>
              </a:rPr>
              <a:t>highlighted ques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652-0345-4485-A32F-F0B99054B5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8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Connecting Questions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o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Pick one question you liked (BLM LGP 1.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Which Big Idea does it fi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Go into four corners for Big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Identify your question and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 think this question fits most closely with this Big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Idea because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Font typeface="Century Gothic"/>
              <a:buChar char="•"/>
              <a:tabLst>
                <a:tab algn="l" pos="68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Now determine which expectations (BLM 1.2) connect to your Big Ideas.  Complete the statement:</a:t>
            </a:r>
            <a:br>
              <a:rPr sz="2100"/>
            </a:b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The connection(s) I see between the overall </a:t>
            </a:r>
            <a:br>
              <a:rPr sz="2100"/>
            </a:b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Century Gothic"/>
              </a:rPr>
              <a:t>expectations and this  Big Idea is</a:t>
            </a:r>
            <a:r>
              <a:rPr b="0" lang="en-US" sz="2100" spc="-1" strike="noStrike">
                <a:solidFill>
                  <a:srgbClr val="003399"/>
                </a:solidFill>
                <a:latin typeface="Century Gothic"/>
              </a:rPr>
              <a:t> 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Anthony</cp:lastModifiedBy>
  <dcterms:modified xsi:type="dcterms:W3CDTF">2009-08-24T05:18:47Z</dcterms:modified>
  <cp:revision>145</cp:revision>
  <dc:subject/>
  <dc:title>Math GAINS 2008-09</dc:title>
</cp:coreProperties>
</file>